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658-F8AD-4937-90B3-486DAC3A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A13-8018-40FB-8298-215517D6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D77-A9EB-40EC-AF3C-2D7781A4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A12-572B-4A2E-AFA5-AD89762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7F67-C39E-4E48-88C7-7EEBCE84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C82-9E07-4F1A-95A2-2CAC0DF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1FFB-C6ED-4365-803D-7FA6F0C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0DE-E2D6-44A9-9E74-BDAE95C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D70-BE5A-4247-A3DB-446A84E5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A4DD-A6A4-4E14-B20A-A96D3CFF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2F91-E91E-47AC-B684-1251611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9C0-6DF6-4E80-8A76-D1B22BA2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F0A-6825-40C2-88E4-DBBEF13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B714-85B9-45D5-8AB3-68F4F0B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2FE-73EF-45E7-B8BC-FCFA204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937C-A715-4F1D-852A-63CB6FB7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741-B8B9-487C-83EE-D55769AD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F75-32CC-4BB6-A2A9-6FE5BA88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73F-B879-4DD9-AC03-28ECFFA2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463-C6BD-44D0-A2E6-2CB42AF5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FF2-1B56-4E41-9957-2C2090A9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50C-28D7-426F-A96E-A7EEDA5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A2D-48CE-4198-A23B-82BD77D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0E6-65D3-49DA-BDBF-DA2C59F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CA67-6FA0-42F3-A816-B62277F078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AE50-C8FA-4931-A0B2-8FDB3B6B45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Oedipus at Colonu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Third Play in the Theban Tri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opho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006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lonna MT"/>
              </a:rPr>
              <a:t>Seven Against Theb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nd six loyal chieftains attempted to invade the city held by Eteocles, the rebellious br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Each chieftain and Polyneices, with their armies, attacked one of the seven gates to the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Theban army repulsed the attac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The Final Insul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Eteocles and Polyneices died at each other’s hands during the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, the new head of Thebes, heralded the bravery of Eteocles and provided his corpse the proper rites of bu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He left the body of Polyneices to rot, for the animals and birds to cons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lay </a:t>
            </a:r>
            <a:r>
              <a:rPr b="0" i="1" lang="en-US" sz="2800" spc="-1" strike="noStrike">
                <a:solidFill>
                  <a:srgbClr val="ffffff"/>
                </a:solidFill>
                <a:latin typeface="Colonna MT"/>
              </a:rPr>
              <a:t>Antigone</a:t>
            </a: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 begins, with the two sisters in front of the seven gated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Chronology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Although the third play in Sophocles’ Theban Trilogy, the events occur after the self imposed exile of Oedip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lay begins with Oedipus and his daughter Antigone entering the village of Colon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air are met by a villager who demands that they leave because the ground is sacred to the F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The Avenger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Furies or Erinyes emerged from the darkest, deepest chasms of cre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y punished anyone who had violated the natural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Killing a parent is such a vio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7480" y="2286000"/>
            <a:ext cx="2451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Civil W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Ismene arrives rejoicing to see her father and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She brings news of impending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Eteocles, son of Oedipus, refused to relinquish the authority he agreed to hold jointly with his brother as co-tyrant in The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wer was to pass back and forth from Eteocles to Polyneices, his brother, every six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lyneices gathered an army to force Eteocles to stand by the original agre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Prophetic Interes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n old prophecy foretold victory in battle to any city where Oedipus lay bu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aged pariah became a person of interest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nd Creon together intended to  unfairly influence the horribly disgraced former tyrant, father, and brother-in-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lonna MT"/>
              </a:rPr>
              <a:t>By Any Means Necessar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 attempted to force Oedipus back to Thebes by kidnapping Antigone and holding her in Thebes along with Ismene, already ta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 wants to bury Oedipus outside of the city to prevent any undue infl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seus, tyrant of nearby Athens and supporter of Oedipus, bollixed the plan and rescued Anti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lyneices tried something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“</a:t>
            </a: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Forgive me, father”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dmitted that he, not Antigone, should have remained by his father’s 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But Oedipus was no fool; fate had taught him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 refused to forgive his son. He loathed the sound of his son’s v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nstead, in grave terms, he foretold the deaths of both his sons in a futile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Determin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Returning to Thebes without his father but with his father’s prophetic words, Polyneices vowed nonetheless to battle his br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 wanted to appear as a determined and capable leader to his foll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ntigone stated her undying support for her brother by vowing to care for his remains when the inevitable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An Exalted Exi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t an olive grove near Colonus, Oedipus was summoned to the afterlife by the gods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seus, his ally from Athens, witnessed the mystical pa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seus ever refused to divulge the details of the e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8:06:21Z</dcterms:created>
  <dc:creator>CHUH</dc:creator>
  <dc:description/>
  <dc:language>en-US</dc:language>
  <cp:lastModifiedBy>CHUH</cp:lastModifiedBy>
  <dcterms:modified xsi:type="dcterms:W3CDTF">2012-02-03T16:35:24Z</dcterms:modified>
  <cp:revision>19</cp:revision>
  <dc:subject/>
  <dc:title>Antigone</dc:title>
</cp:coreProperties>
</file>